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image4.pct" ContentType="image/x-pict"/>
  <Override PartName="/ppt/media/image11.png" ContentType="image/png"/>
  <Override PartName="/ppt/media/image6.png" ContentType="image/png"/>
  <Override PartName="/ppt/media/image3.pct" ContentType="image/x-pict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A1B5-2148-4FE5-88AA-FA4DABC1D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BF516-764C-4F95-8F18-1771E10AA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A537-A9A7-4BE1-950E-008F9F42D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598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3B84-7D7D-4244-86DD-F6E27464C5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315F-1AE0-4469-BF73-19FC76C3C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A7CE-F892-4184-A5F2-1E386697C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C131-3D33-4196-8B30-FD47F1C1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5A512-268E-4DEB-8ACA-E539CC1A2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-76320"/>
            <a:ext cx="670572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700E-6ECE-410F-8C12-A525D8FC9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DF172-195C-4A34-AD6A-189D0F76C5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598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72F0-AFE9-4D1D-9DCD-DFBCE6480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598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1A19-4DB6-4765-BC9A-723D2697A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38280" y="0"/>
            <a:ext cx="67057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14400"/>
            <a:ext cx="243828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438280" y="6324480"/>
            <a:ext cx="670572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24480"/>
            <a:ext cx="2438280" cy="533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38280" y="64008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Md BT"/>
              </a:rPr>
              <a:t>US DOE Joint Genome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2438280" cy="5257800"/>
          </a:xfrm>
          <a:prstGeom prst="rect">
            <a:avLst/>
          </a:prstGeom>
          <a:solidFill>
            <a:srgbClr val="c9c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9600" indent="-284040">
              <a:spcBef>
                <a:spcPts val="601"/>
              </a:spcBef>
              <a:buClr>
                <a:srgbClr val="000000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938-E997-4F69-A975-4B84480227F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JGI_logo_web1" descr=""/>
          <p:cNvPicPr/>
          <p:nvPr/>
        </p:nvPicPr>
        <p:blipFill>
          <a:blip r:embed="rId4"/>
          <a:stretch/>
        </p:blipFill>
        <p:spPr>
          <a:xfrm>
            <a:off x="0" y="0"/>
            <a:ext cx="2438280" cy="13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dcode.org/" TargetMode="External"/><Relationship Id="rId2" Type="http://schemas.openxmlformats.org/officeDocument/2006/relationships/hyperlink" Target="http://www.dcode.org/" TargetMode="External"/><Relationship Id="rId3" Type="http://schemas.openxmlformats.org/officeDocument/2006/relationships/hyperlink" Target="http://www.dcode.org/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3397-7772-4776-AE38-8B659346A55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icky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64990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7848720" cy="1087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57200" y="4419720"/>
            <a:ext cx="8534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lows manual curation of problematic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iew DNA sequence, splice sites and all 6 frames of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nge errors propagated by automated pipeline or error in 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ck Start, Stop and 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4E2F-EF78-4F63-BC09-50554DF68F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o or 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66520" y="13712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iken mouse cDNA suggests that the human models in this region belong to a single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6705720" cy="462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342900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use mRNA (tblast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6700-B1C9-4C56-A877-F84516BB4AD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2"/>
              </a:rPr>
              <a:t>dcode</a:t>
            </a:r>
            <a:r>
              <a:rPr b="0" lang="en-US" sz="2800" spc="-1" strike="noStrike" u="sng">
                <a:solidFill>
                  <a:srgbClr val="fc0128"/>
                </a:solidFill>
                <a:uFillTx/>
                <a:latin typeface="Comic Sans MS"/>
                <a:hlinkClick r:id="rId3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295280" y="1182600"/>
            <a:ext cx="7696440" cy="3838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0880" y="5029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volutionar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nservation prof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of th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, mouse, rat, chicken, frog, fugu, tetraodon, zebrafish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sophil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gen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0F98-4FBD-4326-9760-45BA843F71C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CTG st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666520" y="1143000"/>
            <a:ext cx="5791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metimes CTG is used as the start instead of AT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DK10 has 2 isoforms in RefSeq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xed ORF most closely matches RefSe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5480" y="2819520"/>
            <a:ext cx="7023240" cy="236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5346720"/>
            <a:ext cx="5600880" cy="90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523520" y="4952880"/>
            <a:ext cx="1219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952880"/>
            <a:ext cx="350532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C585-1FD2-4DC5-8B2E-6A5F804D93D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rameshift De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90920" y="4495320"/>
            <a:ext cx="5867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 frame shift deletion in the genomic sequence results in poor matches to known prote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tch the known protein exact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how the actual 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pends on support for each scenar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8991720" cy="2590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18148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D7E6B-BFF3-4FBA-9DCB-348A0CF997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verlapping divergent transcri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90920" y="380952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nly partially overlapping transcripts have very different CDS but share common ex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is exten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r19 genes are densely packed on both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303200" y="1371600"/>
            <a:ext cx="6537600" cy="22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E44E-E50D-4C23-BB50-0498C630106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ternate spli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27360" y="1488960"/>
            <a:ext cx="595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stinguishing incompletely processed mRNAs from splice varia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Retained intron interupts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SimSun"/>
              </a:rPr>
              <a:t>Differences with RefSeq, possibly due to variation in popu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1600" r="0" b="3843"/>
          <a:stretch/>
        </p:blipFill>
        <p:spPr>
          <a:xfrm>
            <a:off x="1244520" y="3200400"/>
            <a:ext cx="7365960" cy="270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0FCD-4595-44E8-8CE0-93A0D29128B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600" y="1599840"/>
            <a:ext cx="59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isabled gene that has an insult- stop or frameshift that interrupts or changes the ORF from the parent gen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olymorphic sites or transcripts indicate that locus activity may vary between individu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retro transposition of RNA into genomic DNA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ngle exon, polyA, lacks promotor/CpG, degraded cond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n-proces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ue to duplication, subsequently disabled, possible to find parent reg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nerally multi exon, promotor/CpG 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E0ACC-FEE6-4EE2-874D-1B0C5BDDF5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cessed Pseudog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1077840"/>
            <a:ext cx="3429000" cy="163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5800" y="260676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743200"/>
            <a:ext cx="380988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1938240" cy="22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2971800" y="4114800"/>
            <a:ext cx="4705200" cy="22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04B3-12E2-458A-A582-3BA90CE906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GI Human Chromosome Ann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3,100-4,4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371600"/>
            <a:ext cx="662940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60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2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46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81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5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2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2 Mb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1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93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0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9-publi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5 - complete. Paper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r16-completed First Pass, should be done in the next month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9A94-BEC1-4210-86D8-713C327FAB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n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95280"/>
            <a:ext cx="5867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ategy: seek best automated models using a hierarchy of evidence.  Manually review high quality evidence (human mRNAs) for which no faithful models can be crea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fast a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2438280" cy="41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0093"/>
                </a:solidFill>
                <a:latin typeface="Comic Sans MS"/>
              </a:rPr>
              <a:t>Responsible for human chromosomes 5, 16, and 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00093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Comic Sans MS"/>
              </a:rPr>
              <a:t>Roughly 4500 gene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E4A3-A8A8-4121-8409-C85DB5128B7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knowledg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ot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rea Ae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eve Low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oel Mart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urie Gord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ry Tran-Gyamf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ary X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ichael Alther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an Challacomb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thy Clel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ina Thay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eremy Schmutz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Yee Man Ch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123920"/>
            <a:ext cx="28954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Uffe Helste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ayne Huang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David Goodste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gor Grigoriev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 Rash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ean Caenap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af Salam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saac H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eila Horni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nette Gre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Victor Solovyev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van Ovcharen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livier Couronn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aramvir Dehal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na Dubcha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isa Stubb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d Dan Rokhs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CD45-4CEA-4D48-A1CB-D29D7DE2A32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 fami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7920" y="1143000"/>
            <a:ext cx="6705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ny gene families have known gene structures but lack extensive mRNA/EST evidence in hum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factory receptors (approximately 40 genes, as many as 150 pseudogenes) -- single exon, seven transmembrane recep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KRAB-containing Zn fingers -- single KRAB domain near amino terminal, followed by typically one exon with multiple zinc fing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d several other famil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custom models using expected gene structure using automated method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utomatically identify pseudogenes, which are common in tandem gene famili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ch tandem families are hard to model ab initio, easy to run genes toget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1864-2227-4EA7-930F-685CA5A806B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fficult 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90920" y="137124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RNAi non-coding loc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Single exon gen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Encodes 136 aa ORF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Locus supported by multiple mRNA and EST evidenc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ntisense to TRAP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2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No similarities to known proteins.</a:t>
            </a:r>
            <a:r>
              <a:rPr b="0" lang="en-US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 rot="10800000">
            <a:off x="838080" y="4343040"/>
            <a:ext cx="77724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A684-83CD-4752-8A8D-1C7A5D652F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752120" y="16761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Human Annotation @ the JG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trid Ter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utomated anno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&amp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nual Cu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FA62-577C-4373-82A5-9A4810B172F5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63600" y="1981080"/>
          <a:ext cx="48168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3600" y="1981080"/>
                    <a:ext cx="48168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666880" y="449568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 run multiple non-dependent steps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ken into commands of varying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 100000s-1,000,000 cmds/jobs issued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695A-1D32-4527-A69F-B391DF24C7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tomated Pipelin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03160" y="1192320"/>
          <a:ext cx="799308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92320"/>
                    <a:ext cx="799308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FE3B-96DB-4F79-8FA7-1C833953E32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12193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p all human mRNAs in Genbank with BLAT against sequence scaffol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tempt to turn these mRNAs into faithful gen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spect coding sequence declared in Genbank, or use  longest ORF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w canonical spl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T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99.6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C…A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4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T…AC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0.0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ag for review evidence for any single base indels (helps correct finishing error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lastx alignments of known protein Dbs, seed GeneWise mod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b inito model predictions using FgenesH++ and Gensc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6A5F-E248-4CEF-8BE0-01D4FB9589B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datasets &amp;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705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fSeq &amp; Human cD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cDNA set is large, and more Rat data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use &amp; Rat IPI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33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uild model using blastx alignments to seed GeneWis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tend with partial human mRNAs (ES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ertebrate mRNA is also a useful dataset for validation/confirmation but not essential (Primate data until recently has not been available in useful quantit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rst EF: First Exon Finder (M Zhang) vs CpG Isl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olutionary conservation (Vista, dcode, in-house tool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AB8F-4EA4-4F81-8D59-BD4259ECE1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1506600"/>
            <a:ext cx="8839080" cy="5351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05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nnotation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1427A-9E38-4A82-A195-24F889526C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unctional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computed alignments and domain finders allow easy viewing of predicted peptide’s proper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11480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interfaces for assigning putative functions based on homology,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597528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804E4-FA4B-4E5B-BB6E-F4E9476B63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-76320"/>
            <a:ext cx="6705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racking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24280" y="1206360"/>
            <a:ext cx="3810240" cy="3213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2438280"/>
            <a:ext cx="3809880" cy="1957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24280" y="4394160"/>
            <a:ext cx="3810240" cy="193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2BD8-1523-4A9F-80F5-0619E98113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3T17:21:30Z</dcterms:created>
  <dc:creator>DOE JGI</dc:creator>
  <dc:description/>
  <cp:keywords>Presentation Generic</cp:keywords>
  <dc:language>en-US</dc:language>
  <cp:lastModifiedBy>DOE JGI</cp:lastModifiedBy>
  <cp:lastPrinted>2000-11-14T22:10:33Z</cp:lastPrinted>
  <dcterms:modified xsi:type="dcterms:W3CDTF">2004-04-26T19:07:38Z</dcterms:modified>
  <cp:revision>20</cp:revision>
  <dc:subject>Berkeley Lab Generic Presentation</dc:subject>
  <dc:title>PowerPoint Presentation</dc:title>
</cp:coreProperties>
</file>